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8A51-D151-49DA-AB21-301A1C3F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40A-F28A-44D3-8640-107EC19C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AE0A-8C12-47C8-A462-213F002D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30E-DF8D-400D-99DF-EB9B9AD9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F6B7-DBB3-4915-B19B-AE527FEE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03C-2A19-4111-A75B-7DD82C90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501-5C85-4103-8FC8-94FBEB3E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E4A-E300-42E1-8EC6-9F2811CE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2C1-2713-4DFD-98FA-A8249187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7ED-E29C-40E4-A9D4-863B591B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B0A-D29F-418A-9119-F571A104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C1B-B570-472E-B736-FE9BC753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08C2-0766-4D38-BF79-8160EA7E2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hyperlink" Target="http://www.sodahead.com/entertainment/brad-pitt-and-angelina-jolie-visit-mcdonalds-drive-thru-which-celebrity-is-addicted-to-junk-food/question-2499923/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66ff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2938320" cy="3047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2280" y="304920"/>
            <a:ext cx="8801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 Cafe De  los Alimentos De Cadey Capistran</a:t>
            </a:r>
            <a:endParaRPr b="0" lang="en-US" sz="4000" spc="1" strike="noStrike">
              <a:ln w="1908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9136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66"/>
                </a:solidFill>
                <a:latin typeface="Arial"/>
              </a:rPr>
              <a:t>menú infa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99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819520" y="304920"/>
            <a:ext cx="35622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 Almuzero</a:t>
            </a:r>
            <a:endParaRPr b="0" lang="en-US" sz="60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 mejor comida 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438280" cy="1612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5000" y="3581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los h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819520" y="188604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83800" y="36576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Arial"/>
              </a:rPr>
              <a:t>el toc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105520" y="1884240"/>
            <a:ext cx="2286000" cy="167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718600" y="3657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la salchi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04920" y="3962520"/>
            <a:ext cx="2305080" cy="1641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9080" y="5599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5682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Arial"/>
              </a:rPr>
              <a:t>las f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819520" y="3962520"/>
            <a:ext cx="1474560" cy="218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94520" y="609588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Arial"/>
              </a:rPr>
              <a:t>zumo de 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095880" y="41148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18280" y="6208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51040" y="61714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Arial"/>
              </a:rPr>
              <a:t>batido de fr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15160" y="4684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o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66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048120" y="304920"/>
            <a:ext cx="3200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 Almuzero</a:t>
            </a:r>
            <a:endParaRPr b="0" lang="en-US" sz="4800" spc="1" strike="noStrike">
              <a:ln w="1908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2333520" cy="155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93040" y="33130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ff"/>
                </a:solidFill>
                <a:latin typeface="Arial"/>
              </a:rPr>
              <a:t>macarrones con q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819520" y="18288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83600" y="384660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ff"/>
                </a:solidFill>
                <a:latin typeface="Arial"/>
              </a:rPr>
              <a:t>mozzarella p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029200" y="2057400"/>
            <a:ext cx="2286000" cy="1630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565600" y="37332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ff"/>
                </a:solidFill>
                <a:latin typeface="Arial"/>
              </a:rPr>
              <a:t>el bró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04920" y="4191120"/>
            <a:ext cx="2381040" cy="1785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8320" y="60192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as papas frit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8120" y="4191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975760" y="624780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chocolate con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91320" y="4191120"/>
            <a:ext cx="2057400" cy="1850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67800" y="46846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27000" y="61714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el refre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32240" y="137160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a mejor comida 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99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971800" y="152280"/>
            <a:ext cx="321948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Cena</a:t>
            </a:r>
            <a:endParaRPr b="0" lang="en-US" sz="80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2514600" cy="1885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432240" y="160020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 mejor comida 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3800" y="380916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ff66"/>
                </a:solidFill>
                <a:latin typeface="Arial"/>
              </a:rPr>
              <a:t>los dedos de p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124080" y="19810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508920" y="411408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ff66"/>
                </a:solidFill>
                <a:latin typeface="Arial"/>
              </a:rPr>
              <a:t>la ensa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192096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565240" y="411480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Las papas 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914400" y="4519440"/>
            <a:ext cx="2190600" cy="1662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02720" y="6247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Arial"/>
              </a:rPr>
              <a:t>el arr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352680" y="4495680"/>
            <a:ext cx="2438640" cy="1717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660840" y="62478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Arial"/>
              </a:rPr>
              <a:t>la leche de f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6324480" y="4419720"/>
            <a:ext cx="1419480" cy="1966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92760" y="47242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75080" y="632376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Arial"/>
              </a:rPr>
              <a:t>ponche de fr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9900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200400" y="152280"/>
            <a:ext cx="24289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 Postre</a:t>
            </a:r>
            <a:endParaRPr b="0" lang="en-US" sz="5400" spc="1" strike="noStrike">
              <a:ln w="19080">
                <a:solidFill>
                  <a:srgbClr val="00ffff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10666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La mejor comida 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5520" y="304740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la tarta de 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0" y="1371600"/>
            <a:ext cx="1809720" cy="1809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67360" y="3199680"/>
            <a:ext cx="19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helado de vain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419720" y="1371600"/>
            <a:ext cx="1831680" cy="1905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22960" y="327600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fresas con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807240" y="1143000"/>
            <a:ext cx="162864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52280" y="40384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3200400" y="3809880"/>
            <a:ext cx="2247840" cy="2248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785280" y="35805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Arial"/>
              </a:rPr>
              <a:t>batido de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3440" y="61714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ff"/>
                </a:solidFill>
                <a:latin typeface="Arial"/>
              </a:rPr>
              <a:t>las magdal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8760" y="601920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00ff"/>
                </a:solidFill>
                <a:latin typeface="Arial"/>
              </a:rPr>
              <a:t>hacer su propio he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99cc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08:27Z</dcterms:created>
  <dc:creator>capistrancad</dc:creator>
  <dc:description/>
  <dc:language>en-US</dc:language>
  <cp:lastModifiedBy>capistrancad</cp:lastModifiedBy>
  <dcterms:modified xsi:type="dcterms:W3CDTF">2012-04-05T13:38:46Z</dcterms:modified>
  <cp:revision>5</cp:revision>
  <dc:subject/>
  <dc:title>Slide 1</dc:title>
</cp:coreProperties>
</file>